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D33A-BA9E-42A2-8E25-6E191B85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896-F199-4638-A299-5CF517F9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D64-EF94-4DB3-9050-0A41DAE9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7D1F-312B-48AB-AC5A-3FE4D3E9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731-6070-4ABF-8E7F-FBBA4440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DAD-36E3-4D82-99DA-97F55D80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B1B-8FB1-49E1-81C9-9A5E3A2E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9913-EC80-4365-990B-74C01C99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66CC-9743-46BB-A4F6-0F1517C8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DD66-C8B0-4F09-ADA3-DD8516CE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9008-D20A-4D64-9421-A852CA7B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76C-58B7-48A0-B429-66B0F441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21C7-FE3D-46C4-80BD-6848ECAC2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19720" cy="971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5181840" cy="650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0880" y="17128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329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7848720" cy="279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7772400" cy="129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4876920"/>
            <a:ext cx="57913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943600" cy="865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769644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7162920" cy="393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324480" y="388620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4800600"/>
            <a:ext cx="8458200" cy="1265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14400" y="5715000"/>
            <a:ext cx="67816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00100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61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229600" cy="138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2120" y="1143000"/>
            <a:ext cx="9903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1143000"/>
            <a:ext cx="9144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1066680"/>
            <a:ext cx="11430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29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124080" y="2819520"/>
            <a:ext cx="17528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3200400"/>
            <a:ext cx="1295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3809880"/>
            <a:ext cx="17524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191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105520"/>
            <a:ext cx="2667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571500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6095880"/>
            <a:ext cx="8384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4:02:29Z</dcterms:created>
  <dc:creator>grahams</dc:creator>
  <dc:description/>
  <dc:language>en-US</dc:language>
  <cp:lastModifiedBy>grahams</cp:lastModifiedBy>
  <dcterms:modified xsi:type="dcterms:W3CDTF">2012-03-22T12:52:54Z</dcterms:modified>
  <cp:revision>2</cp:revision>
  <dc:subject/>
  <dc:title>Slide 1</dc:title>
</cp:coreProperties>
</file>